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wmf" ContentType="image/x-wmf"/>
  <Override PartName="/ppt/media/image13.wmf" ContentType="image/x-wmf"/>
  <Override PartName="/ppt/media/image8.wmf" ContentType="image/x-wmf"/>
  <Override PartName="/ppt/media/image12.gif" ContentType="image/gif"/>
  <Override PartName="/ppt/media/image7.gif" ContentType="image/gif"/>
  <Override PartName="/ppt/media/image5.jpeg" ContentType="image/jpeg"/>
  <Override PartName="/ppt/media/image20.wmf" ContentType="image/x-wmf"/>
  <Override PartName="/ppt/media/image6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4.gif" ContentType="image/gif"/>
  <Override PartName="/ppt/media/image16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0DC0-BF32-40BC-A434-32FBF6F087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 to Cell Vocabul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ncy Na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 Thing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 to Cell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ncy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romosomes are inside the nucleus and are made of genes (DN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s decide the cells traits and activities (heart cell, eye cell (color)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are inside the nucleus and are made of genes (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 decide the cells traits and activities (heart cell, eye cell (color)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ar membrane allows substances to pass in and out of the 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surrounds the nucleus (the brain) like the turtle’s skull…protects 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ar membrane allows substances to pass in and out of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urrounds the nucleus (the brain) like the turtle’s skull…protect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cuo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cuoles are spaces in the cytoplasm (gel) where food and chemicals are sto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like “fat” on a turt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am NOT fat…I’m just a little plump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 are spaces in the cytoplasm (gel) where food and chemicals are st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like “fat” on a 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NOT fat…I’m just a little plump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Walls are only in plant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make the cell strong and rig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like a turtle’s shell (but only plants have them…that’s why grass stands straight up!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s are only in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the cell strong and rig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like a turtle’s shell (but only plants have them…that’s why grass stands straight up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las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lasts are only in plant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ontain chlorophyll, which helps make energy/food from sunl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hyll is green in color…so any plant that is green has chloropla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’m green…do I have chloroplast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 are only in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ntain chlorophyll, which helps make energy/food from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is green in color…so any plant that is green has 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green…do I have chloroplas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’s the Differenc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at are two things that Plant cells have that animal cells don’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lasts &amp; Cell Wa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the Differ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are two things that Plant cells have that animal cells don’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 &amp;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ould happen if animals had Chloroplast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animals had Chloroplas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ow, let’s review…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Membrane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Wall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Chloropla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romosome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ucleu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ytoplasm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Vacuo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lant/Animal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erentiatio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Cell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, let’s review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plas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Vacu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/Animal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Cell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atulati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now know all the vocabulary for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atul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ow know all the vocabulary fo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s are the basic unit of all living things…if it is alive it has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the basic unit of all living things…if it is alive it has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“Classes” of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2 classes of cells.  There are only two differences between Plant &amp; Animal cells…try to spot them by the end of the sh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“Classes”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classes of cells.  There are only two differences between Plant &amp; Animal cells…try to spot them by the end of the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Differenti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only 2 classes of cells (plant/animal), but there are many kinds of cells in each class.  Each kind of cell has a DIFFERENT job to do…it specializ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am a heart cell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am a skin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’m a Prison Cell! 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fferent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only 2 classes of cells (plant/animal), but there are many kinds of cells in each class.  Each kind of cell has a DIFFERENT job to do…it specializ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a heart ce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a skin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a Prison Cell!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you hear the new vocabulary…just think of 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rt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hear the new vocabulary…just think of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ell membrane holds the cell together and allows nutrients in the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like a turtle’s sk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ell membrane is on the edge of a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holds the cell together and allows nutrients in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just like a turtle’s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is on the edge of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topla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toplasm is the watery gel (Jello!) inside a cell….it’s goop! It holds the ORGANel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toplasm is like the turtles blood and other liqui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the watery gel (Jello!) inside a cell….it’s goop! It holds the 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like the turtles blood and other 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 is an ORGANelle that releases energy from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 is like a turtle’s stomac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 is an ORGANelle that releases energy from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 is like a turtle’s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us controls the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us is like the turtle’s br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us control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us is like the turtle’s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3569F-57E7-4566-9A51-35C49DBB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F3202-738B-4AF8-8D30-3A59CE0C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092FD-7ACB-496F-95E5-3A502461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AC814-E25B-4CE1-BB68-7F606C61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E91D-08CA-4B5F-A1C7-679BD64A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775B-3E23-4CA7-A93D-21344728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C739-BBDB-421E-A570-4C56C856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507B-B3EA-4AEF-A29B-4FD34D45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1248-FA07-477F-9896-406BA89A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EA24-E727-48E8-9991-FE173EFD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C0F1-604D-4C4D-A7B4-3A90D721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5068B-07FF-4CD4-BD39-97E9EAC7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EB7D-6E80-4D64-8BA3-5A30A458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07D7-CB8C-404F-96B5-2902A0E3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C10E-EE1A-4DD8-B8C6-CF3BFCB5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2BB8-6543-41A2-A3A4-CFE02F14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F5BD-2341-4353-BF2E-E6F0D04F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CD6F9-C7C0-4954-83DD-785B6D8B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030F9-CD1A-4681-A4A8-10E690C6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05127-00CF-4D60-B91B-9C985B56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0CD62-A6B8-4516-907C-114F5EC1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00D57-9672-4564-8B08-7E436B87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3726D-D33F-421C-B973-75A67E62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06363-256B-4EC6-B623-FEB21CE5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BD36-6DE5-4AAE-8B96-564065E68A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872F-6655-46AC-85C0-FFCA81BE3C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image" Target="../media/image5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Intro to Cell Vocabulary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ncy Na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ple Th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hromosom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omosomes are inside the nucleus and are made of genes (D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s decide the cells traits and activities (heart cell, eye cell (color)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4" descr="bd20088_"/>
          <p:cNvPicPr/>
          <p:nvPr/>
        </p:nvPicPr>
        <p:blipFill>
          <a:blip r:embed="rId1"/>
          <a:stretch/>
        </p:blipFill>
        <p:spPr>
          <a:xfrm>
            <a:off x="1447920" y="396252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2666880" y="4724280"/>
            <a:ext cx="1600200" cy="486000"/>
          </a:xfrm>
          <a:prstGeom prst="rightArrow">
            <a:avLst>
              <a:gd name="adj1" fmla="val 50000"/>
              <a:gd name="adj2" fmla="val 8231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6" descr="j0280748"/>
          <p:cNvPicPr/>
          <p:nvPr/>
        </p:nvPicPr>
        <p:blipFill>
          <a:blip r:embed="rId2"/>
          <a:stretch/>
        </p:blipFill>
        <p:spPr>
          <a:xfrm>
            <a:off x="4267080" y="4267080"/>
            <a:ext cx="1460520" cy="13734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7"/>
          <p:cNvSpPr/>
          <p:nvPr/>
        </p:nvSpPr>
        <p:spPr>
          <a:xfrm>
            <a:off x="5715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8" descr="j0403997"/>
          <p:cNvPicPr/>
          <p:nvPr/>
        </p:nvPicPr>
        <p:blipFill>
          <a:blip r:embed="rId3"/>
          <a:stretch/>
        </p:blipFill>
        <p:spPr>
          <a:xfrm>
            <a:off x="6858000" y="4343400"/>
            <a:ext cx="1073160" cy="10699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uclear Membra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ar membrane allows substances to pass in and out of the nucle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surrounds the nucleus (the brain) like the turtle’s skull…protects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4" descr="bd20088_"/>
          <p:cNvPicPr/>
          <p:nvPr/>
        </p:nvPicPr>
        <p:blipFill>
          <a:blip r:embed="rId1"/>
          <a:stretch/>
        </p:blipFill>
        <p:spPr>
          <a:xfrm>
            <a:off x="990720" y="403848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5"/>
          <p:cNvSpPr/>
          <p:nvPr/>
        </p:nvSpPr>
        <p:spPr>
          <a:xfrm>
            <a:off x="2209680" y="49528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6" descr="j0133451"/>
          <p:cNvPicPr/>
          <p:nvPr/>
        </p:nvPicPr>
        <p:blipFill>
          <a:blip r:embed="rId2"/>
          <a:stretch/>
        </p:blipFill>
        <p:spPr>
          <a:xfrm>
            <a:off x="6400800" y="3581280"/>
            <a:ext cx="1700280" cy="300996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acuol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cuoles are spaces in the cytoplasm (gel) where food and chemicals are sto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’s like “fat” on a tur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4" descr="PH03447I"/>
          <p:cNvPicPr/>
          <p:nvPr/>
        </p:nvPicPr>
        <p:blipFill>
          <a:blip r:embed="rId1"/>
          <a:stretch/>
        </p:blipFill>
        <p:spPr>
          <a:xfrm>
            <a:off x="1676520" y="3657600"/>
            <a:ext cx="3657600" cy="246204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6"/>
          <p:cNvSpPr/>
          <p:nvPr/>
        </p:nvSpPr>
        <p:spPr>
          <a:xfrm>
            <a:off x="5562720" y="2971800"/>
            <a:ext cx="2438280" cy="2438280"/>
          </a:xfrm>
          <a:prstGeom prst="cloudCallout">
            <a:avLst>
              <a:gd name="adj1" fmla="val -133527"/>
              <a:gd name="adj2" fmla="val 3248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5715000" y="35812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am NOT fat…I’m just a little plump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8" descr="bd20088_"/>
          <p:cNvPicPr/>
          <p:nvPr/>
        </p:nvPicPr>
        <p:blipFill>
          <a:blip r:embed="rId2"/>
          <a:stretch/>
        </p:blipFill>
        <p:spPr>
          <a:xfrm>
            <a:off x="7620120" y="228600"/>
            <a:ext cx="1214280" cy="129528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9"/>
          <p:cNvSpPr/>
          <p:nvPr/>
        </p:nvSpPr>
        <p:spPr>
          <a:xfrm>
            <a:off x="6934320" y="533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 Wal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Walls are only in plant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make the cell strong and rig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re like a turtle’s shell (but only plants have them…that’s why grass stands straight up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4" descr="j0111472"/>
          <p:cNvPicPr/>
          <p:nvPr/>
        </p:nvPicPr>
        <p:blipFill>
          <a:blip r:embed="rId1"/>
          <a:stretch/>
        </p:blipFill>
        <p:spPr>
          <a:xfrm>
            <a:off x="3352680" y="4495680"/>
            <a:ext cx="1989360" cy="1528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bd20088_"/>
          <p:cNvPicPr/>
          <p:nvPr/>
        </p:nvPicPr>
        <p:blipFill>
          <a:blip r:embed="rId2"/>
          <a:stretch/>
        </p:blipFill>
        <p:spPr>
          <a:xfrm>
            <a:off x="7684920" y="228600"/>
            <a:ext cx="1459080" cy="155736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6"/>
          <p:cNvSpPr/>
          <p:nvPr/>
        </p:nvSpPr>
        <p:spPr>
          <a:xfrm>
            <a:off x="6781680" y="762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hloroplast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oroplasts are only in plant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ontain chlorophyll, which helps make energy/food from sunl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orophyll is green in color…so any plant that is green has chloropla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4" descr="j0140649"/>
          <p:cNvPicPr/>
          <p:nvPr/>
        </p:nvPicPr>
        <p:blipFill>
          <a:blip r:embed="rId1"/>
          <a:stretch/>
        </p:blipFill>
        <p:spPr>
          <a:xfrm>
            <a:off x="4419720" y="4648320"/>
            <a:ext cx="3076560" cy="151920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5"/>
          <p:cNvSpPr/>
          <p:nvPr/>
        </p:nvSpPr>
        <p:spPr>
          <a:xfrm>
            <a:off x="609480" y="4648320"/>
            <a:ext cx="2667240" cy="2209680"/>
          </a:xfrm>
          <a:prstGeom prst="cloudCallout">
            <a:avLst>
              <a:gd name="adj1" fmla="val 93273"/>
              <a:gd name="adj2" fmla="val -3412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762120" y="50292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’m green…do I have chloroplast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7" descr="bd20088_"/>
          <p:cNvPicPr/>
          <p:nvPr/>
        </p:nvPicPr>
        <p:blipFill>
          <a:blip r:embed="rId2"/>
          <a:stretch/>
        </p:blipFill>
        <p:spPr>
          <a:xfrm>
            <a:off x="7226280" y="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8"/>
          <p:cNvSpPr/>
          <p:nvPr/>
        </p:nvSpPr>
        <p:spPr>
          <a:xfrm>
            <a:off x="6629400" y="228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’s the Difference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 what are two things that Plant cells have that animal cells don’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Picture 4" descr="j0149627"/>
          <p:cNvPicPr/>
          <p:nvPr/>
        </p:nvPicPr>
        <p:blipFill>
          <a:blip r:embed="rId1"/>
          <a:stretch/>
        </p:blipFill>
        <p:spPr>
          <a:xfrm>
            <a:off x="5486400" y="3124080"/>
            <a:ext cx="2533680" cy="1800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j0281904"/>
          <p:cNvPicPr/>
          <p:nvPr/>
        </p:nvPicPr>
        <p:blipFill>
          <a:blip r:embed="rId2"/>
          <a:stretch/>
        </p:blipFill>
        <p:spPr>
          <a:xfrm>
            <a:off x="1219320" y="3200400"/>
            <a:ext cx="1825560" cy="17254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6"/>
          <p:cNvSpPr/>
          <p:nvPr/>
        </p:nvSpPr>
        <p:spPr>
          <a:xfrm>
            <a:off x="4280400" y="3809880"/>
            <a:ext cx="4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143000" y="5334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loroplasts &amp; Cell Wa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What would happen if animals had Chloroplasts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4" descr="j0149627"/>
          <p:cNvPicPr/>
          <p:nvPr/>
        </p:nvPicPr>
        <p:blipFill>
          <a:blip r:embed="rId1"/>
          <a:stretch/>
        </p:blipFill>
        <p:spPr>
          <a:xfrm>
            <a:off x="3305160" y="2529000"/>
            <a:ext cx="2533680" cy="180000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ow, let’s review…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Membra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Wa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hloropla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omosom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ar Membr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tochondr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toplas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Vacuo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t/Anima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Ce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4" descr="bd20088_"/>
          <p:cNvPicPr/>
          <p:nvPr/>
        </p:nvPicPr>
        <p:blipFill>
          <a:blip r:embed="rId1"/>
          <a:stretch/>
        </p:blipFill>
        <p:spPr>
          <a:xfrm>
            <a:off x="1295280" y="4343400"/>
            <a:ext cx="1917720" cy="2046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bd07865_"/>
          <p:cNvPicPr/>
          <p:nvPr/>
        </p:nvPicPr>
        <p:blipFill>
          <a:blip r:embed="rId2"/>
          <a:stretch/>
        </p:blipFill>
        <p:spPr>
          <a:xfrm>
            <a:off x="5638680" y="4572000"/>
            <a:ext cx="2286000" cy="18730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ngratulation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now know all the vocabulary for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Picture 4" descr="j0136827"/>
          <p:cNvPicPr/>
          <p:nvPr/>
        </p:nvPicPr>
        <p:blipFill>
          <a:blip r:embed="rId1"/>
          <a:stretch/>
        </p:blipFill>
        <p:spPr>
          <a:xfrm>
            <a:off x="3657600" y="2209680"/>
            <a:ext cx="2568600" cy="426744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s are the basic unit of all living things…if it is alive it has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j0390229"/>
          <p:cNvPicPr/>
          <p:nvPr/>
        </p:nvPicPr>
        <p:blipFill>
          <a:blip r:embed="rId1"/>
          <a:stretch/>
        </p:blipFill>
        <p:spPr>
          <a:xfrm>
            <a:off x="457200" y="3276720"/>
            <a:ext cx="3657600" cy="2609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j0390218"/>
          <p:cNvPicPr/>
          <p:nvPr/>
        </p:nvPicPr>
        <p:blipFill>
          <a:blip r:embed="rId2"/>
          <a:stretch/>
        </p:blipFill>
        <p:spPr>
          <a:xfrm>
            <a:off x="4495680" y="3276720"/>
            <a:ext cx="3657600" cy="26096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wo “Classes” of Cell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2 classes of cells.  There are only two differences between Plant &amp; Animal cells…try to spot them by the end of the s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472400" y="3809880"/>
            <a:ext cx="185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t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647320" y="388620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imal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8" descr="j0281904"/>
          <p:cNvPicPr/>
          <p:nvPr/>
        </p:nvPicPr>
        <p:blipFill>
          <a:blip r:embed="rId1"/>
          <a:stretch/>
        </p:blipFill>
        <p:spPr>
          <a:xfrm>
            <a:off x="1447920" y="4648320"/>
            <a:ext cx="1825560" cy="1725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j0149627"/>
          <p:cNvPicPr/>
          <p:nvPr/>
        </p:nvPicPr>
        <p:blipFill>
          <a:blip r:embed="rId2"/>
          <a:stretch/>
        </p:blipFill>
        <p:spPr>
          <a:xfrm>
            <a:off x="5715000" y="4572000"/>
            <a:ext cx="2533680" cy="180036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 Differentia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only 2 classes of cells (plant/animal), but there are many kinds of cells in each class.  Each kind of cell has a DIFFERENT job to do…it specializ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j0390229"/>
          <p:cNvPicPr/>
          <p:nvPr/>
        </p:nvPicPr>
        <p:blipFill>
          <a:blip r:embed="rId1"/>
          <a:stretch/>
        </p:blipFill>
        <p:spPr>
          <a:xfrm>
            <a:off x="533520" y="5029200"/>
            <a:ext cx="2133360" cy="1522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j0390235"/>
          <p:cNvPicPr/>
          <p:nvPr/>
        </p:nvPicPr>
        <p:blipFill>
          <a:blip r:embed="rId2"/>
          <a:stretch/>
        </p:blipFill>
        <p:spPr>
          <a:xfrm>
            <a:off x="3962520" y="5029200"/>
            <a:ext cx="1981080" cy="1414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j0287178"/>
          <p:cNvPicPr/>
          <p:nvPr/>
        </p:nvPicPr>
        <p:blipFill>
          <a:blip r:embed="rId3"/>
          <a:stretch/>
        </p:blipFill>
        <p:spPr>
          <a:xfrm>
            <a:off x="6781680" y="5181480"/>
            <a:ext cx="1676520" cy="13654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7"/>
          <p:cNvSpPr/>
          <p:nvPr/>
        </p:nvSpPr>
        <p:spPr>
          <a:xfrm>
            <a:off x="533520" y="3352680"/>
            <a:ext cx="1828800" cy="1067040"/>
          </a:xfrm>
          <a:prstGeom prst="wedgeRectCallout">
            <a:avLst>
              <a:gd name="adj1" fmla="val 11458"/>
              <a:gd name="adj2" fmla="val 12574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am a heart cell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3886200" y="3505320"/>
            <a:ext cx="1752480" cy="1523880"/>
          </a:xfrm>
          <a:prstGeom prst="wedgeRoundRectCallout">
            <a:avLst>
              <a:gd name="adj1" fmla="val 5976"/>
              <a:gd name="adj2" fmla="val 77291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am a skin c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629400" y="3429000"/>
            <a:ext cx="1600200" cy="1676520"/>
          </a:xfrm>
          <a:prstGeom prst="wedgeEllipseCallout">
            <a:avLst>
              <a:gd name="adj1" fmla="val 15277"/>
              <a:gd name="adj2" fmla="val 8674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’m a Prison Cell!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When you hear the new vocabulary…just think of 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3505320" y="41148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Turtl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8" descr="j0354431"/>
          <p:cNvPicPr/>
          <p:nvPr/>
        </p:nvPicPr>
        <p:blipFill>
          <a:blip r:embed="rId1"/>
          <a:stretch/>
        </p:blipFill>
        <p:spPr>
          <a:xfrm>
            <a:off x="5943600" y="4191120"/>
            <a:ext cx="2286000" cy="10713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 Membra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cell membrane holds the cell together and allows nutrients in the ce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t’s just like a turtle’s ski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cell membrane is on the edge of a ce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5" descr="bd07865_"/>
          <p:cNvPicPr/>
          <p:nvPr/>
        </p:nvPicPr>
        <p:blipFill>
          <a:blip r:embed="rId1"/>
          <a:stretch/>
        </p:blipFill>
        <p:spPr>
          <a:xfrm>
            <a:off x="762120" y="3962520"/>
            <a:ext cx="1812960" cy="1485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bd20088_"/>
          <p:cNvPicPr/>
          <p:nvPr/>
        </p:nvPicPr>
        <p:blipFill>
          <a:blip r:embed="rId2"/>
          <a:stretch/>
        </p:blipFill>
        <p:spPr>
          <a:xfrm>
            <a:off x="3657600" y="373392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7"/>
          <p:cNvSpPr/>
          <p:nvPr/>
        </p:nvSpPr>
        <p:spPr>
          <a:xfrm rot="19557600">
            <a:off x="5105520" y="35812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0.11073 C 0.00416 0.11165 0.00677 0.11165 0.00868 0.11373 C 0.01666 0.12228 0.01006 0.12552 0.01527 0.13731 C 0.01788 0.14355 0.02691 0.14471 0.0309 0.14632 C 0.03836 0.14933 0.04548 0.15257 0.05312 0.15511 C 0.06024 0.16158 0.06597 0.16944 0.07309 0.17591 C 0.07465 0.17984 0.07586 0.184 0.0776 0.1877 C 0.08038 0.19371 0.08645 0.2055 0.08645 0.2055 C 0.10954 0.20435 0.15243 0.20989 0.1776 0.19371 C 0.19652 0.15904 0.17187 0.20781 0.18645 0.16412 C 0.18958 0.15441 0.19965 0.14933 0.20642 0.14632 C 0.22586 0.15002 0.22864 0.1484 0.23975 0.1699 C 0.24045 0.17476 0.2401 0.1803 0.24201 0.1847 C 0.25017 0.20435 0.27274 0.20342 0.28645 0.2055 C 0.29704 0.21475 0.30312 0.22792 0.31302 0.23809 C 0.32083 0.26352 0.3368 0.28433 0.35746 0.29126 C 0.39774 0.27924 0.36163 0.29288 0.38871 0.27647 C 0.40277 0.26791 0.41267 0.26514 0.42204 0.24688 C 0.43125 0.20943 0.42621 0.23532 0.42864 0.1669 C 0.43125 0.18054 0.43576 0.19232 0.43975 0.2055 C 0.44114 0.2374 0.4401 0.26514 0.44861 0.29427 C 0.47309 0.27785 0.45034 0.29034 0.4842 0.28248 C 0.48958 0.28132 0.49444 0.27762 0.49982 0.27647 C 0.50781 0.27462 0.51597 0.27439 0.52413 0.27346 C 0.5375 0.26745 0.52413 0.273 0.54427 0.26768 C 0.55885 0.26398 0.57135 0.25821 0.58645 0.25566 C 0.59531 0.25196 0.60121 0.24549 0.60868 0.23809 C 0.61527 0.22492 0.62118 0.21336 0.62638 0.19949 C 0.62725 0.19371 0.63038 0.1706 0.63316 0.1669 C 0.63923 0.15881 0.64566 0.14933 0.65086 0.14031 C 0.66805 0.11049 0.65191 0.13245 0.66649 0.11373 C 0.6684 0.09986 0.66961 0.09246 0.67534 0.08114 C 0.67604 0.07235 0.6776 0.06357 0.6776 0.05455 C 0.6776 0.05155 0.67534 0.06334 0.67534 0.06334 L 0.68194 0.03976 E">
                                      <p:cBhvr>
                                        <p:cTn id="18" dur="5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ytoplas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toplasm is the watery gel (Jello!) inside a cell….it’s goop! It holds the ORGANel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toplasm is like the turtles blood and other liqu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bd20088_"/>
          <p:cNvPicPr/>
          <p:nvPr/>
        </p:nvPicPr>
        <p:blipFill>
          <a:blip r:embed="rId1"/>
          <a:stretch/>
        </p:blipFill>
        <p:spPr>
          <a:xfrm>
            <a:off x="838080" y="4038480"/>
            <a:ext cx="1917720" cy="2046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j0111474"/>
          <p:cNvPicPr/>
          <p:nvPr/>
        </p:nvPicPr>
        <p:blipFill>
          <a:blip r:embed="rId2"/>
          <a:stretch/>
        </p:blipFill>
        <p:spPr>
          <a:xfrm>
            <a:off x="6858000" y="4267080"/>
            <a:ext cx="1158840" cy="182880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6"/>
          <p:cNvSpPr/>
          <p:nvPr/>
        </p:nvSpPr>
        <p:spPr>
          <a:xfrm>
            <a:off x="1676520" y="4267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52 0.08437 C -0.07518 0.07836 -0.12274 0.05779 -0.17222 0.05178 C -0.23004 0.03606 -0.27483 0.04161 -0.34115 0.03999 C -0.37084 0.03421 -0.4 0.02843 -0.43004 0.02519 C -0.45972 0.02219 -0.4717 0.02219 -0.45886 0.02219 L -0.4434 0.02519 E">
                                      <p:cBhvr>
                                        <p:cTn id="24" dur="5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itochondri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tochondria is an ORGANelle that releases energy from f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tochondria is like a turtle’s stoma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5" descr="j0382565"/>
          <p:cNvPicPr/>
          <p:nvPr/>
        </p:nvPicPr>
        <p:blipFill>
          <a:blip r:embed="rId1"/>
          <a:stretch/>
        </p:blipFill>
        <p:spPr>
          <a:xfrm>
            <a:off x="6324480" y="48769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AG00441_"/>
          <p:cNvPicPr/>
          <p:nvPr/>
        </p:nvPicPr>
        <p:blipFill>
          <a:blip r:embed="rId2"/>
          <a:stretch/>
        </p:blipFill>
        <p:spPr>
          <a:xfrm>
            <a:off x="3581280" y="5208480"/>
            <a:ext cx="3276720" cy="1649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bd20088_"/>
          <p:cNvPicPr/>
          <p:nvPr/>
        </p:nvPicPr>
        <p:blipFill>
          <a:blip r:embed="rId3"/>
          <a:stretch/>
        </p:blipFill>
        <p:spPr>
          <a:xfrm>
            <a:off x="7226280" y="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8"/>
          <p:cNvSpPr/>
          <p:nvPr/>
        </p:nvSpPr>
        <p:spPr>
          <a:xfrm>
            <a:off x="8077320" y="16765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ucleu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us controls the c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us is like the turtle’s br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4" descr="j0133537"/>
          <p:cNvPicPr/>
          <p:nvPr/>
        </p:nvPicPr>
        <p:blipFill>
          <a:blip r:embed="rId1"/>
          <a:stretch/>
        </p:blipFill>
        <p:spPr>
          <a:xfrm rot="1524000">
            <a:off x="304920" y="3886200"/>
            <a:ext cx="2412720" cy="2166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j0395712"/>
          <p:cNvPicPr/>
          <p:nvPr/>
        </p:nvPicPr>
        <p:blipFill>
          <a:blip r:embed="rId2"/>
          <a:stretch/>
        </p:blipFill>
        <p:spPr>
          <a:xfrm rot="251400">
            <a:off x="2819160" y="4419360"/>
            <a:ext cx="1523880" cy="1258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j0390235"/>
          <p:cNvPicPr/>
          <p:nvPr/>
        </p:nvPicPr>
        <p:blipFill>
          <a:blip r:embed="rId3"/>
          <a:stretch/>
        </p:blipFill>
        <p:spPr>
          <a:xfrm>
            <a:off x="6324480" y="380880"/>
            <a:ext cx="2362320" cy="1685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bd20088_"/>
          <p:cNvPicPr/>
          <p:nvPr/>
        </p:nvPicPr>
        <p:blipFill>
          <a:blip r:embed="rId4"/>
          <a:stretch/>
        </p:blipFill>
        <p:spPr>
          <a:xfrm>
            <a:off x="6172200" y="373392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8"/>
          <p:cNvSpPr/>
          <p:nvPr/>
        </p:nvSpPr>
        <p:spPr>
          <a:xfrm rot="929400">
            <a:off x="6095520" y="43430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22:02:06Z</dcterms:created>
  <dc:creator>Mr. Ryan</dc:creator>
  <dc:description/>
  <dc:language>en-US</dc:language>
  <cp:lastModifiedBy>LEGION2</cp:lastModifiedBy>
  <dcterms:modified xsi:type="dcterms:W3CDTF">2016-01-11T13:01:50Z</dcterms:modified>
  <cp:revision>19</cp:revision>
  <dc:subject/>
  <dc:title>Intro to Cell Vocabulary</dc:title>
</cp:coreProperties>
</file>